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634-2BEB-4027-A89F-AE2DFB03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C0E-BBC1-42B4-B080-4AB2E802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7F7-1C85-49AA-BA77-74D55D86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5CB-20EE-4F2D-9725-8E283010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2B3-5305-4143-B572-5EF543F0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7FC-BE60-4549-8B65-A6493091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9C5-35C6-421D-940F-D933C12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291-47FC-46FC-9B80-E3DFB07D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67C-B5C8-4AAC-9B0A-4B493E41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A80-B9D5-4198-A158-2170D61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FB6-2450-4154-B127-15446CF7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AE2-A4AD-4F7A-A590-93CD7FF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934-8BB3-4A5C-9E4A-8CB24CBA15D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latinum TTM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CM reque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is one of 10 core projec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6.07 planned (according SWM DS is for retail vers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S 07.07 possible for operators acc. SWM (as Koala is here lead, if no Koala lead then 08.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CM reque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5.07 for operato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most critical feat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I voice recogni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investigation starte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ome features identified as risk already (e.g. voice control inside navigat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GPS/A-GP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irst implementation of new HW and SW (RFR6275 not working on EVB so far, no SW implementation available today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TT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Critical line is SW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Investigation was done how to come to an earlier DS for operator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234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WM: Scenario Platinum DS in 04/2007 (= 1st operator approval in 06/2007!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1) Immediate start with Platinum specific features not possible due to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Voice Control and A-GPS solution still not clarified nor system concept defined, nor ISVs selected </a:t>
            </a: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no imediate start possible as required for early IOTs and DS in 04/2007 = high risk and potential delay of D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Resources for Voice Control and A-GPS (Munich experts) involved in Kestrel and DSP handover from AAL during June 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igh risk for DS in 04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Koala had to get a timeout of 2 months leading to DS in 06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2) Risk reduction (especially for IOT) possible if fully A-GPS enabled HW is available early (Dec 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3) Overall SW load situation very similar as with Koala due to identical operator requirements of Koala and Platinum (still a req. reduction needed due to over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4) Koala touch screen and landscape application mode already very well prepared for immediate sta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5) Biggest challenge for whole platform is huge operator requirements (many big changes) and so expected long approval cycles with operator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DS Retail in 04/2007 leads to a first operator approval in 06/2007 (Koala or Platinum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30:28Z</dcterms:modified>
  <cp:revision>141</cp:revision>
  <dc:subject/>
  <dc:title>PowerPoint 簡報</dc:title>
</cp:coreProperties>
</file>